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41FC-DB6D-440C-9171-22E5FEC17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2C9-7B9B-43FF-9CDB-9F270E5E3CC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669B-9C6B-4420-B117-57B14149274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Activitatea  2 </a:t>
            </a:r>
            <a:br>
              <a:rPr sz="1200"/>
            </a:b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usţinerea activităţii proprii de învăţare a elevulu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FB6-4DBC-4D5B-B2F7-978A3A7FC25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E31-F8FC-47A0-AEC9-ED395BDD9E3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214-6F03-45D7-80E9-D40FAAC39A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606-2616-4EB1-B6E2-8784806115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A2C-049A-498B-AEB3-6886860B3E4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D1E4-A2B6-4895-8088-77659E40A67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3DB2-CDB4-4A4C-B5A2-1A3793B833A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6D0-FFE0-43E0-962A-4DBD1BC600E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425F-3763-4DB1-93B2-1E789181F5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1101-F54F-4407-9084-508BB698247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406F-6EDE-418E-9257-C5C9CDA5F8A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461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Postaţi pe site-ul wiki al grupei răspunsurile la întrebările de mai sus, sub formă de Comentari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61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tp://isc4lugojna.wikispaces.com</a:t>
            </a:r>
            <a:r>
              <a:rPr b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30C3-5213-4F54-A6AF-A9617AAC1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8D00-25A7-4D7E-8372-923FA8C07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507D-2A7A-444F-A97E-454F63663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AD63-8869-495E-A378-03E827B8A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A2C4-28C6-4A94-9D44-2C4191A8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8FFC-9428-4F57-AEB5-E280E8DA0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68E7-7394-41FA-A1D6-A4D23BBE4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432F-7C22-4A3F-B0C7-0A77A7602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00EC-4874-485F-B4BF-CC116913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B802-66C8-4AAA-B420-65FE1A982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3667-31F2-4B21-A55E-9CFE89D77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71BD-4071-4F98-B341-84C8C760F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AA86-FD94-4D5D-9102-A48F4DA7F0B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GM__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Intel Teach – 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0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167-8167-41EB-9D30-8585C340374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Susţinerea elevilor prin metoda proiectului în cazul învăţării centrate pe elev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(6.02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61760"/>
            <a:ext cx="83250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În proiecte elevii trebuie încurajați și solicitaţi să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ia decizi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lucreze în colabor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preia iniţiativ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să efectueze prezentări publice,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i="1" lang="ro-RO" sz="2400" spc="-1" strike="noStrike">
                <a:solidFill>
                  <a:srgbClr val="0860a8"/>
                </a:solidFill>
                <a:latin typeface="Verdana"/>
              </a:rPr>
              <a:t>oate acestea pot fi dificile la început pentru aceştia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Elevii care s-au obişnuit să fie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observatori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sau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spectatori adormiţi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pot avea reacţii de respingere faţă de activităţile solicitante, în special dacă rolurile pasive reprezintă “</a:t>
            </a:r>
            <a:r>
              <a:rPr b="1" i="1" lang="ro-RO" sz="2000" spc="-1" strike="noStrike">
                <a:solidFill>
                  <a:srgbClr val="7030a0"/>
                </a:solidFill>
                <a:latin typeface="Verdana"/>
              </a:rPr>
              <a:t>reacția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”  și la alte materii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4280" y="1511280"/>
            <a:ext cx="8532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Brainstorming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ăspundeţi la următoarele întrebăr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îi pot ajuta pe elevii mei să-şi autodirecţioneze învăţarea şi să aibă capacitatea de a lua decizii optime pentru finalizarea sarcinilor proiect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putem forma la elevi obişnuinţa de a investiga şi de a căuta răspunsuri la întrebările complexe/deschis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um putem încuraja şi susţine elevii în timp ce îşi asumă roluri noi care se potrivesc cel mai bine talentelor lor individual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Ce modele putem furniza pentru a ajuta elevii să reflecteze şi să-şi valorifice curiozitatea naturală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ostaţi concluziile pe wik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thttp://isc4lugojna.wikispaces.com 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C7FA-69C1-43A7-8EE5-CF547B5B13F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ractici pedagogice </a:t>
            </a:r>
            <a:r>
              <a:rPr b="1" lang="ro-RO" sz="1400" spc="-1" strike="noStrike">
                <a:solidFill>
                  <a:srgbClr val="ff0000"/>
                </a:solidFill>
                <a:latin typeface="Verdana"/>
              </a:rPr>
              <a:t>4 grupe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o-RO" sz="1100" spc="-1" strike="noStrike">
                <a:solidFill>
                  <a:srgbClr val="0860a8"/>
                </a:solidFill>
                <a:latin typeface="Verdana"/>
              </a:rPr>
              <a:t>15min</a:t>
            </a:r>
            <a:br>
              <a:rPr sz="2200"/>
            </a:b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usţinerea elevilor să lucreze prin metoda proiectului în cazul învăţării centrate pe elev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6.02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A8AA-B4CD-47F7-8041-7F8968D764F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560" y="272520"/>
            <a:ext cx="876132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 1 Cunoaşterea elevilor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40min</a:t>
            </a:r>
            <a:br>
              <a:rPr sz="1100"/>
            </a:br>
            <a:br>
              <a:rPr sz="1200"/>
            </a:b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redarea plia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ă pe nevoile elevilor schimbă atitudinea acestora şi se obţin rezultate bune în procesul educativ. 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au nevoie de condiţii adecvate nevoilor lor şi de sprijin individualizat. 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formative îi ajută pe profesori să proiecteze activităţi didactice care să corespundă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9880" y="2644920"/>
            <a:ext cx="8536320" cy="37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Stilurile diferite de învăţare ale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04)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20min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ownload-ati fişierele propuse de pe site-ul wiki /Modul 6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ucraţi în grupe de 3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. Fiecare membru al grupului va citi un fişier de facilitare şi va comunica celorlalţi membri ai echipei noţiunile esenţiale desp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tilurile de învăţ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: vizual – auditiv - chinestezic/pract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rtea stângă a creierului/partea dreaptă a creier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-177840" algn="just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inteligenţele multip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rezentaţi-vă opinia despre modul în care aceste abordări ale învăţări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pot avea implicaţii asupra modului în care unitatea proprie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425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c2e86"/>
                </a:solidFill>
                <a:latin typeface="Verdana"/>
              </a:rPr>
              <a:t>răspunde nevoilor elevilor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D6B2-7D1A-415A-8E0A-D0EF9C1A261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0200" y="1169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10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S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usţinerea elevilor cu nevoi special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20m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6.06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izuiţi materialele de pe CD resurse curriculum pentru facilitarea nevoilor tuturor elevilor şi analizaţi modul în care aţi putea include unele din aceste strategii în unitatea dumneavoastră de învăţar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550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nalizaţi materialele informative de la Modulul 6, Activitatea 1, din CD resurse curriculum şi gândiţi-vă ce strategii vă vor ajuta să vă adaptaţi tuturor nevoilor elevi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100" spc="-1" strike="noStrike">
                <a:solidFill>
                  <a:srgbClr val="0860a8"/>
                </a:solidFill>
                <a:latin typeface="Verdana"/>
              </a:rPr>
              <a:t>Aveţi în vedere liniile directore de la pagina 6.07.</a:t>
            </a:r>
            <a:endParaRPr b="0" lang="en-US" sz="11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ondaj instruire diferenţiat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ul unităţii de 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la secţiunea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Ajustări  pentru diferenţierea instruir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crieţi o schiţă a strategiilor pe care le veţi folosi la secţiunea </a:t>
            </a:r>
            <a:r>
              <a:rPr b="1" i="1" lang="ro-RO" sz="2000" spc="-1" strike="noStrike">
                <a:solidFill>
                  <a:srgbClr val="0860a8"/>
                </a:solidFill>
                <a:latin typeface="Verdana"/>
              </a:rPr>
              <a:t>Facilităţi pentru instruirea diferenţiat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258F-A7F5-487A-AF8A-AF22714107C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4960" y="213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2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ora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naliza evaluărilor formative pentru susţinerea activităţii proprii de învăţare a elevului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6.08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valuarea formativă are cele mai bune rezultate când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lor le este dată o imagine clară a ceea ce trebuie să înveţ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i prim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c răspunsuri continue cu privire la progresul lor în relaţie cu obiectivele propus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levii îşi evaluează propriile progres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fesorii furnizează instrucţiuni clare cu privire la paşii pe care elevii trebuie să-i urmeze pentru a avea succes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Black &amp; Wiliam, 1998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F2F-74B3-40B6-A00B-A14E4E3D4B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9040" y="134640"/>
            <a:ext cx="89946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2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30 min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4600" y="1275840"/>
            <a:ext cx="872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nalizați următoarele studii de caz în care evaluările formative sunt folosite pentru a diferenţia învăţarea şi a susţine elevii în activitatea proprie de învăţar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resursa Evaluarea Proiecte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http://educate.intel.com/ro/assessingprojects/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3. Click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ivire de ansamblu şi beneficii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4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vi-VN" sz="2000" spc="-1" strike="noStrike">
                <a:solidFill>
                  <a:srgbClr val="0860a8"/>
                </a:solidFill>
                <a:latin typeface="Verdana"/>
              </a:rPr>
              <a:t>Evaluarea formativ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5. Selectaţi I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nstruirii diferenţiat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i mai jos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udiile de caz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n al doilea câmp marcat din dreapta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6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scărcaţi documentul în format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Microsoft Word*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şi salvaţi-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1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7.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oduceţi observaţii cum ar fi întrebări, legături cu propriile experienţe sau idei. Discutaţi aceste observaţii cu partenerul dumneavoastră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B21-8C99-41F7-9CD4-A845827442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: Crearea unei evaluări pentru a susţine activitatea proprie de învăţare a elevulu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(6.09) 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30 min</a:t>
            </a:r>
            <a:endParaRPr b="0" lang="en-US" sz="11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reaţi o evaluare care ajută elevii să preia mai mult controlul propriului studiu, cum ar fi o evaluare care să faciliteze auto-organizarea, auto-evaluarea şi reflecţia. Alege dintre următoarele opţiun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 1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Creaţi o nouă evaluare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Modificaţi o evaluare existentă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folosind  aplicaţia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Optiunea 3: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Descărcaţi şi modificaţi o evaluare din secţiunea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instruirii diferenţiate 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de la </a:t>
            </a:r>
            <a:r>
              <a:rPr b="0" i="1" lang="ro-RO" sz="10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(page 6.11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4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Optiunea 4:</a:t>
            </a:r>
            <a:r>
              <a:rPr b="0" lang="ro-RO" sz="1000" spc="-1" strike="noStrike">
                <a:solidFill>
                  <a:srgbClr val="0860a8"/>
                </a:solidFill>
                <a:latin typeface="Verdana"/>
              </a:rPr>
              <a:t> Creaţi o evaluare folosind software de procesare a documentelor (page 6.11)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0547-FB9E-45D5-A040-AF3C2DEF4B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2320" y="272520"/>
            <a:ext cx="8310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 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 ora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1880" y="1792440"/>
            <a:ext cx="8237520" cy="39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Explorarea resurselor de materiale (formulare, şabloane, etc..) pentru a facilita învăţarea independentă a elevi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2)15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alizaţi exemplele de şabloane, formulare şi documente localizate în fişierul Modul 6, Activitatea 3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şabloane, formulare sau alte documente aţi folosi în unitatea de învăţare pentru a susţine învăţarea independentă 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u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ţinerea gândirii matemati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6.13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10 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anumite metode prin care aţi putea integra matematica în unitatea dvs. precizaţi ideile la pagina 6.1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B3D3-924F-4F55-A12B-799D8AECA63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404640"/>
            <a:ext cx="823752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ctivitatea 3  Crea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384200"/>
            <a:ext cx="823752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 3: Crearea unor resurse suport pentru elev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14)35 m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legeţi una din următoarele opţiuni pentru a crea o resursă pe care elevii o vor folosi pentru a susţine activitatea independentă de învăţare în cadrul unităţii ale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document 1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4)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grafice, tabele, schem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ablon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5) ghid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ctiv 10.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3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şablon de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ezent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(page 6.15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4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ormula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page 6.16) </a:t>
            </a:r>
            <a:r>
              <a:rPr b="0" lang="ro-RO" sz="1200" spc="-1" strike="noStrike">
                <a:solidFill>
                  <a:srgbClr val="0860a8"/>
                </a:solidFill>
                <a:latin typeface="Verdana"/>
              </a:rPr>
              <a:t>ghid activ 10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in asistenţă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şterea rolului resurselor 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corporaţi gândirea matematică în resursa  suport a elevilor (page 6.16) introducerea de formule grafice, tabele, sch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1EA-DD70-42AF-B77E-A8DD7E129FC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100" spc="-1" strike="noStrike">
                <a:solidFill>
                  <a:srgbClr val="0860a8"/>
                </a:solidFill>
                <a:latin typeface="Verdana"/>
              </a:rPr>
              <a:t>15 min</a:t>
            </a:r>
            <a:br>
              <a:rPr sz="11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zuirea planului unităţii de învăţare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8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1880" y="161892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şi revizuiţi “Lista de verificare a Planului Unităţii de învăţare” salvată în folderul unit_plan din folderul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iţi secţiunea Planului de Evaluare pentru a include evaluări suplimentare în care elevii planifică şi fac alegeri cu privire la activitatea proprie, se gândesc la procesele lor de gândire (metacogniţie) şi evaluează progresul propr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if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caţi secţiunea Proceduri de instruire în funcţie de aspectele avute în vede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iţi secţiunea Strategii pentru instruire diferenţiată folosind ce aţi învăţat în acest mod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lanul unităţii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F394-28A9-4B18-80E2-69A7DD1973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280" y="1198440"/>
            <a:ext cx="82375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darea bazată pe proiec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Bazele învăţării prin proiecte şi design-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2: Pla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ficarea propriei unităţi d e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Dezvoltarea întrebărilor de încadrare a curriculumului şi evaluarea continuă centrată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alizarea conexiun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nternetul ca suport pentru predare şi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4: C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area exemplelor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le proiecte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(p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zentăr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public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wiki, blo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5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proiectelor elev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formativă şi sumativ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EFE4-915B-4715-9FE2-85B78B1CABC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5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15 min</a:t>
            </a:r>
            <a:br>
              <a:rPr sz="12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71600"/>
            <a:ext cx="83246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capitularea modului (10 mi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le cheie ale modului 6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an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ziţia la învăţarea centrată pe ele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adaptări atât din 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tea elevilor cât şi a profesori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ii trebuie să lucreze cu elevii pentru a-i ajuta să-şi dezvolte abilităţile d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evii trebuie să aibă un rol activ în procesul de învăţ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ot utiliza strategii diferenţiate din perspectiv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inut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selor fin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diulu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trebuie să aibă în vedere diferitele stiluri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prijinirea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un cadrul corespunzător astfel încât elevii să devină încrezători şi independenţ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800-BDC6-4DD1-A9EF-DB26F3645FA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ilor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5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1880" y="1501560"/>
            <a:ext cx="82375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registrarea reflecţiilor pe blo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5 mi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ctivităţilor, capacităţilor şi abordărilor discutate în acest modul şi apoi deschideţi blog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spectelor în care acest modul v-a ajutat să planificaţi şi să creaţi unitatea de învăţare răspunzând la întreb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organizeze propria activitate de învăţare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um pot susţine diversele nevoi ale elevilor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câştigate din acest modul asupra modului dvs. de predare şi asupra studiului elevi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registraţi părerile, reflecţiile, întrebările şi îngrijorările pe blo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0324-5A2A-4D3E-A89A-17954BF190E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: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Gândiţi-vă în avans la utilitatea resurselor de facilitare pentru unitatea dvs.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6.2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1–6.22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sunt prezentate strategii de predare pe care profesorii ar trebui să le includă în diferitele etape ale planificării unită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începutul unităţii de învăţare, includeţi strategii pentru stabilirea obiectiv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timpul unităţii includeţi strategii pentr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torizarea progresului pentru atingerea obiectiv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rodu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rea cunoştinţelor no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ersarea, revizuirea şi aplicarea cunoştinţ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finalul unităţii de învăţare, includeţi strategii pentru a ajuta elevii să determine cât de bine şi-au atins obiective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A96E-4245-410B-AA9B-D50D6513E8B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1880" y="1530360"/>
            <a:ext cx="8237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Brainstorming – materiale de facilitare create pentru unitatea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2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facilitare aţi creat deja pe care doriţi să le folosiţi neschimbate sau să le modificaţi pentru unitatea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suport pentru profesor v-ar ajuta să fiţi mai efici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noi de facilitare ar îmbunătăţi învăţarea elevilor dvs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suplimentare de facilitare ar fi utile pentru a facilita implementarea unităţii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0319-46D7-47E1-9FDA-240110804C3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vind înainte!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3680" y="719280"/>
          <a:ext cx="8218440" cy="5425920"/>
        </p:xfrm>
        <a:graphic>
          <a:graphicData uri="http://schemas.openxmlformats.org/drawingml/2006/table">
            <a:tbl>
              <a:tblPr/>
              <a:tblGrid>
                <a:gridCol w="2628720"/>
                <a:gridCol w="5589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 prin tehnolog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ofesorul ca facilit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losirea întrebărilor pentru a promova gândirea de nivel superior şi pentru a implica ele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-evaluarea facilităţilor create pentru a le adapta învăţării centrate pe el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materialelor de facili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unui plan de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mplemen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zuirea planului unităţii de învăţar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i asupra propriei învăţări pe blog şi discuţii cu partene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izarea resurselor de Internet pentru profeso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2007-03-05LogoSIVECO15aniCertif_Ro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4DFE-B476-40B0-BF27-932C4330AE4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E9E-902F-4AAC-9395-3C3B5D18144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cture 15" descr="IM0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8840" y="4459320"/>
            <a:ext cx="83012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6: Plan</a:t>
            </a:r>
            <a:r>
              <a:rPr b="1" lang="ro-RO" sz="2400" spc="-1" strike="noStrike">
                <a:solidFill>
                  <a:srgbClr val="ffffff"/>
                </a:solidFill>
                <a:latin typeface="Verdana"/>
              </a:rPr>
              <a:t>ificarea pentru succesul elevului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BC9A-4D85-4EE8-9E9C-F20142DD0C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3120" y="32868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studi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65200" y="1528920"/>
            <a:ext cx="389268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Focus: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Materiale suport pentru elevi şi dezvoltarea gândirii proprii a acesto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19" descr="GM__2346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994F-E113-4C47-BBBA-896BC9E1DB5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8080" y="272880"/>
            <a:ext cx="86122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871560"/>
            <a:ext cx="8324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unctele cheie ale modului 6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Tranziţia la învăţarea centrată pe ele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necesită adaptări atât din partea elevilor cât şi a profesorilor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ebui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ă lucreze cu elev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entru a-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juta s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-şi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dezvolte abilităţile de învăţare independentă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lev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trebuie să aibă un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ol acti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în procesul d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pot utiliza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rategii diferenţiat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n perspectiva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Conţinut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Proces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Produselor fina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0000"/>
                </a:solidFill>
                <a:latin typeface="Verdana"/>
              </a:rPr>
              <a:t>Mediului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rofesori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trebuie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să aibă în veder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feritele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iluri de învăţ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in sprijinirea nevoilor elevilor ei devin încrezători şi independenţi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0388-BB7E-4A3D-88A0-BD74CFA2E40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 aşteptate</a:t>
            </a:r>
            <a:r>
              <a:rPr b="0" lang="en-US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: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ercetarea strategiilor pentru instruirea diferenţiată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unei evaluări care să încurajeze autonomia în    gândire a elevului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materialelor suport pentru elev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vizuirea planului unităţii de învăţare din perspectiva planificării pentru succesul elevului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flectare asupra propriei învăţări pe blog;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9F87-89E9-4BA4-87EA-98FEE56A3C4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851360" y="272880"/>
            <a:ext cx="7589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area esenţială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856040" y="137160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ate fi folosită tehnologia cel mai eficient pentru a susţine şi evalua învăţare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 să-şi formeze auto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a în gând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de învăţare ale 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6" descr="GM__2186"/>
          <p:cNvPicPr/>
          <p:nvPr/>
        </p:nvPicPr>
        <p:blipFill>
          <a:blip r:embed="rId1"/>
          <a:stretch/>
        </p:blipFill>
        <p:spPr>
          <a:xfrm>
            <a:off x="0" y="14400"/>
            <a:ext cx="469116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36F-60EB-492E-9E2F-0DE372CA15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4251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860a8"/>
                </a:solidFill>
                <a:latin typeface="Verdana"/>
              </a:rPr>
              <a:t>Ce mai avem de studiat?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18666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7: Facil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itarea învăţării prin tehnologie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ofesorul ca facilita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8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ezentarea portofoliilor unităţilor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S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chimb de opinii cu privire la portofoliile realiz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5C6C-1E4C-46AF-BFBE-B569D79B5FE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60a8"/>
                </a:solidFill>
                <a:latin typeface="Verdana"/>
              </a:rPr>
              <a:t>Lucraţi în perechi şi comunicaţi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15min </a:t>
            </a: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(6.01) </a:t>
            </a:r>
            <a:br>
              <a:rPr sz="2400"/>
            </a:b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860a8"/>
                </a:solidFill>
                <a:latin typeface="Verdana"/>
              </a:rPr>
              <a:t>Exemplul pentru elevi şi modul de evalua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3720" y="1341360"/>
            <a:ext cx="88470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Deschideţi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Planul unităţii de învăţare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şi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Aplicaţia</a:t>
            </a: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 creată din perspectiva elevului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Răspundeţi la întrebăril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valuarea vizează obiectivele unităţii de învăţar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Planul de evaluare descrie clar şi detaliat rezultatele aşteptat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valuarea este în concordanţă cu întrebarea esenţială şi de unitat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Exemplu creta din perspectiva elevului are în vedere rezultatele şi aşteptările dorite ale evaluării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info2</cp:lastModifiedBy>
  <cp:lastPrinted>2006-11-14T00:45:04Z</cp:lastPrinted>
  <dcterms:modified xsi:type="dcterms:W3CDTF">2011-04-02T10:01:17Z</dcterms:modified>
  <cp:revision>232</cp:revision>
  <dc:subject/>
  <dc:title>Presentation Title Goes Here</dc:title>
</cp:coreProperties>
</file>